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EA2-8A20-4DB1-9AB6-012B4923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x0008__x0008__x0008_Fixed costs (machine, pay operator @ least 4 hours/day – we’re in Swe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costs (materials, overtime labor, # of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Discount for each lat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ou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7FA-709C-4FC1-8C29-CDBD89F7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38390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EC1-CBA3-4106-8C6B-3DC0F06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70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287-E1D4-4014-A987-E9E6E62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856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324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856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324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7D1-ECC0-4B5D-97A9-921EC7BA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59B-0737-400F-8D07-3858BEB1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6AD-ED53-4A4D-A1F7-1CED1BD2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2AE-0E9E-4E10-98A8-F4AF798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D3F-ABA2-4424-A20C-138B2650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094-6326-4823-BE68-00873BE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B0A-E5BE-4B98-A144-8061A48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70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798-0F64-4D03-AB90-36B4903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B7C-BB76-44D6-A657-DCA4BD8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0"/>
            <a:ext cx="815328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914400"/>
            <a:ext cx="647676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84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DC5D-872A-4FBE-9085-56BD74E6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window%20frames%20ready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-2362320" y="0"/>
            <a:ext cx="37990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&amp; Sons</a:t>
            </a:r>
            <a:br>
              <a:rPr sz="3600"/>
            </a:b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Glass Manufacturing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81120" y="388584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40000"/>
                </a:solidFill>
                <a:uFillTx/>
                <a:latin typeface="Tahoma"/>
              </a:rPr>
              <a:t>Team 9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Kavithy Chetti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Olaf Halfstorm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Laura Kupersmith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Michael Lesnik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Metta Murdayan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6019920"/>
            <a:ext cx="6477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odel Demonstration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4647960"/>
            <a:ext cx="1904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6019920"/>
            <a:ext cx="6477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600200" y="5562360"/>
            <a:ext cx="251460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048120" y="5105160"/>
            <a:ext cx="23619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95680"/>
            <a:ext cx="236232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42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1219320"/>
          <a:ext cx="693396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9339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828800" y="57150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5562720"/>
            <a:ext cx="7111800" cy="1143000"/>
            <a:chOff x="1600200" y="5562720"/>
            <a:chExt cx="7111800" cy="1143000"/>
          </a:xfrm>
        </p:grpSpPr>
        <p:sp>
          <p:nvSpPr>
            <p:cNvPr id="100" name=""/>
            <p:cNvSpPr/>
            <p:nvPr/>
          </p:nvSpPr>
          <p:spPr>
            <a:xfrm>
              <a:off x="1600200" y="5562720"/>
              <a:ext cx="7086600" cy="1143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8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664280" y="5639040"/>
              <a:ext cx="7047720" cy="916920"/>
              <a:chOff x="1664280" y="5639040"/>
              <a:chExt cx="7047720" cy="916920"/>
            </a:xfrm>
          </p:grpSpPr>
          <p:sp>
            <p:nvSpPr>
              <p:cNvPr id="102" name=""/>
              <p:cNvSpPr/>
              <p:nvPr/>
            </p:nvSpPr>
            <p:spPr>
              <a:xfrm>
                <a:off x="1664280" y="5639040"/>
                <a:ext cx="704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40000"/>
                    </a:solidFill>
                    <a:latin typeface="Tahoma"/>
                  </a:rPr>
                  <a:t>Average Waste Reduction Percentage per Style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881720" y="6096240"/>
                <a:ext cx="6601320" cy="459720"/>
                <a:chOff x="1881720" y="6096240"/>
                <a:chExt cx="6601320" cy="45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881720" y="6096240"/>
                  <a:ext cx="6601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40000"/>
                      </a:solidFill>
                      <a:latin typeface="Tahoma"/>
                    </a:rPr>
                    <a:t>Style 1: - 43%    Style 2: - 53%     Style 3: - 72%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88000" y="6248520"/>
                  <a:ext cx="7596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249960" y="6248520"/>
                  <a:ext cx="7632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4120" y="2666880"/>
          <a:ext cx="373356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7335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96252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523880" y="1371600"/>
            <a:ext cx="373392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Waste Reduction by Styl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Key figure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28800" y="1905120"/>
          <a:ext cx="6095880" cy="365760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203184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Bench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duc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3 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4 hrs re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2 hrs over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fit /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$825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High $1,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Low $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duced /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221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One length4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ptimal production schedul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Reduced wast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odel not suited to large order quantiti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ood improvement over ‘make large first’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al improvement over ‘make as they come’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Further Work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velop model that is less calculation intensive in order to handle large quantiti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sider future penalties when optimizing schedul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Use of remaining piece at end of order for next day’s order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Objective: Mo’ money G!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duction Scheduling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aximize profit through intelligent use of resources 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cess Optimiz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ize waste through creation of optimal cutting li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&amp; Son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anufacturers windows to custom order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ffers three styles 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um lead time 10 day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duction sequenc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81080" y="5334120"/>
            <a:ext cx="6400800" cy="838080"/>
            <a:chOff x="1981080" y="5334120"/>
            <a:chExt cx="6400800" cy="838080"/>
          </a:xfrm>
        </p:grpSpPr>
        <p:sp>
          <p:nvSpPr>
            <p:cNvPr id="61" name=""/>
            <p:cNvSpPr/>
            <p:nvPr/>
          </p:nvSpPr>
          <p:spPr>
            <a:xfrm>
              <a:off x="198108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p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’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h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f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888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57150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5715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9400" y="5715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Model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1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enerate Order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2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termine production schedule 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(minimize production cost)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3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ptimize cutting list for minimum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wast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Production Schedule Constrain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Input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ixed co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Variable co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vertime penalt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livery requirements – late penalt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Resource availability (machine + labor)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105520"/>
            <a:ext cx="4572000" cy="581400"/>
          </a:xfrm>
          <a:prstGeom prst="rect">
            <a:avLst/>
          </a:prstGeom>
          <a:solidFill>
            <a:srgbClr val="b2b2b2"/>
          </a:solidFill>
          <a:ln w="76320">
            <a:solidFill>
              <a:srgbClr val="81360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40000"/>
                </a:solidFill>
                <a:latin typeface="Tahoma"/>
              </a:rPr>
              <a:t>Goal: Maximize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523880" cy="302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40000"/>
                </a:solidFill>
                <a:latin typeface="Brush Script MT"/>
              </a:rPr>
              <a:t>$$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029200"/>
            <a:ext cx="152388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40000"/>
                </a:solidFill>
                <a:latin typeface="Brush Script MT"/>
              </a:rPr>
              <a:t>$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chedule Optimization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cision variabl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Make today?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Resource availability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Delivery date – late penalty 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Labor costs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Delivery date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Evolutionary solver (trial and error)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63120" y="6553080"/>
            <a:ext cx="114120" cy="76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inimize Wast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pic>
        <p:nvPicPr>
          <p:cNvPr id="79" name="waste%20material%20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5791320" cy="2881440"/>
          </a:xfrm>
          <a:prstGeom prst="rect">
            <a:avLst/>
          </a:prstGeom>
          <a:ln w="0">
            <a:noFill/>
          </a:ln>
        </p:spPr>
      </p:pic>
      <p:pic>
        <p:nvPicPr>
          <p:cNvPr id="80" name="priceisright" descr=""/>
          <p:cNvPicPr/>
          <p:nvPr/>
        </p:nvPicPr>
        <p:blipFill>
          <a:blip r:embed="rId3"/>
          <a:srcRect l="0" t="0" r="70597" b="0"/>
          <a:stretch/>
        </p:blipFill>
        <p:spPr>
          <a:xfrm>
            <a:off x="1676520" y="5410080"/>
            <a:ext cx="1371600" cy="110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1" name="bob&amp;beauties" descr=""/>
          <p:cNvPicPr/>
          <p:nvPr/>
        </p:nvPicPr>
        <p:blipFill>
          <a:blip r:embed="rId4"/>
          <a:stretch/>
        </p:blipFill>
        <p:spPr>
          <a:xfrm>
            <a:off x="6934320" y="434340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67480" y="1523880"/>
            <a:ext cx="1600200" cy="1828800"/>
          </a:xfrm>
          <a:prstGeom prst="wedgeRoundRectCallout">
            <a:avLst>
              <a:gd name="adj1" fmla="val -33333"/>
              <a:gd name="adj2" fmla="val 114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dea is to come as close to 40ft without going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inimize Wast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cision Variabl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Assign piece to certain stock length (1,2,3….j)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Subset i = Number of piece identification 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Subset j = Length identification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86200" y="4267080"/>
          <a:ext cx="228600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267080"/>
                    <a:ext cx="2286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20:42:42Z</dcterms:created>
  <dc:creator>Michael Lesnie</dc:creator>
  <dc:description/>
  <dc:language>en-US</dc:language>
  <cp:lastModifiedBy>Ola Holmstrom</cp:lastModifiedBy>
  <dcterms:modified xsi:type="dcterms:W3CDTF">2002-05-01T21:55:04Z</dcterms:modified>
  <cp:revision>13</cp:revision>
  <dc:subject/>
  <dc:title>Svensson &amp; Sons Glass Manufacturing</dc:title>
</cp:coreProperties>
</file>